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A0107-E4F8-4D66-AD8E-4786F717E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8912D-1185-45FA-8A7A-6D3A9110B0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18FD2-05AC-4311-AA37-EE6750C9F8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3226C-C28C-4F8B-80FA-DE2300B33A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672FC-7E3C-4BB9-BB06-CD9035D9B5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64FF3-1709-4656-89AF-86F8F5331A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89F78-32DC-4A6D-A160-E3D720C767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E0033-5819-4882-BBBF-BC118C6C37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997ED-EFAE-4FA8-B150-FEFCE7467F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6D7BB-5955-4089-9903-B247AE4888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3B3D4-DA50-4520-9D21-63174F0F75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04327-B540-4025-B343-C470C54F5B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44617-ADCF-4F35-99C1-94FE7CC0A6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E97BB-5A21-40DB-A383-7F8B41F2D1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57533-D891-4CBD-B157-C9D0A7D6DC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35A4B-E8E4-4314-91A7-0AAA78800C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DF6D3-5E06-4557-8ADA-BF08C4D9C4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141C3-F06B-4C4F-A321-EC8BCA8FDE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CD7A3-CF49-4627-81C5-088015C1B1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2C76F-51E4-419B-9BF2-317FB834FF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B733D-4791-44DF-AAA6-54EC3D9D55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5805B-3078-4DAC-9023-C0B63BAFFA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A9A85-CEF0-4BAA-A231-633577BFF5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DFA53-4094-45D6-8627-5EDFFD8DA4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7FB89-C0E5-4D2B-9612-781843AEDEB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4AD22-C32E-4ED6-904E-8D2B097873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4DDB5-1659-4921-A1F1-10E3E4D6DF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17F4B-CD53-4030-8EF3-C42FFC041D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5D37B-AB61-4321-A796-4AAFB418103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4BA08-B5F5-479F-A341-143016F8BF3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45325-284F-4595-B64E-F2219E5142B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283CC-F324-41B5-8170-9B4D7D82D7F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665AD-9F15-42B5-BB23-E7E9EC4176F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73471-0080-49AD-A72F-F82B7295B9B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37EB2-DE59-4D72-9F86-6B268673A15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DFE5E-E3D8-4EAA-9246-6C79B0B0C2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25329-8004-406F-A3D1-903749A70D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42B75-6A8C-4247-AB49-5DEB38EB23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ED663-25CE-46E7-8A58-1E61CCC7AA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E5BC0-CBAE-4C69-B474-53D42CE591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4F243-866E-49EF-86A3-FB7E369843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56868-CB42-47F6-B24C-7A6195AC03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DB739-0B8F-4159-B6A9-B7934041DB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E0FC7E79-6C20-4DDE-B896-E10B9D4DC8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uperset Parameter Value Specific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perset Parameter Value Specific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tecting Unconsumed Parameters (R3.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in a mod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28"/>
          <p:cNvSpPr/>
          <p:nvPr/>
        </p:nvSpPr>
        <p:spPr>
          <a:xfrm flipH="1">
            <a:off x="228456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3"/>
          <p:cNvSpPr/>
          <p:nvPr/>
        </p:nvSpPr>
        <p:spPr>
          <a:xfrm>
            <a:off x="762120" y="4038480"/>
            <a:ext cx="24382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4"/>
          <p:cNvSpPr/>
          <p:nvPr/>
        </p:nvSpPr>
        <p:spPr>
          <a:xfrm>
            <a:off x="6095880" y="411480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38"/>
          <p:cNvSpPr/>
          <p:nvPr/>
        </p:nvSpPr>
        <p:spPr>
          <a:xfrm>
            <a:off x="533520" y="990720"/>
            <a:ext cx="8001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configuration file approach for assigning preset values to the cci-parameters.  (For further details, see ex17_Specifying_Parameter_Values_via_a_Configuration_File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40"/>
          <p:cNvSpPr/>
          <p:nvPr/>
        </p:nvSpPr>
        <p:spPr>
          <a:xfrm>
            <a:off x="2286000" y="2666880"/>
            <a:ext cx="4800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two modules 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WN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9" name="Straight Arrow Connector 43"/>
          <p:cNvCxnSpPr>
            <a:stCxn id="188" idx="2"/>
            <a:endCxn id="184" idx="0"/>
          </p:cNvCxnSpPr>
          <p:nvPr/>
        </p:nvCxnSpPr>
        <p:spPr>
          <a:xfrm flipH="1">
            <a:off x="1980360" y="3352320"/>
            <a:ext cx="2706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Straight Arrow Connector 45"/>
          <p:cNvCxnSpPr>
            <a:stCxn id="188" idx="2"/>
            <a:endCxn id="185" idx="0"/>
          </p:cNvCxnSpPr>
          <p:nvPr/>
        </p:nvCxnSpPr>
        <p:spPr>
          <a:xfrm>
            <a:off x="4686480" y="3352320"/>
            <a:ext cx="27439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1" name="Rectangle 46"/>
          <p:cNvSpPr/>
          <p:nvPr/>
        </p:nvSpPr>
        <p:spPr>
          <a:xfrm>
            <a:off x="152280" y="48006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cci_parameters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1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2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Rectangle 47"/>
          <p:cNvSpPr/>
          <p:nvPr/>
        </p:nvSpPr>
        <p:spPr>
          <a:xfrm>
            <a:off x="6113520" y="4992840"/>
            <a:ext cx="2666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handle for broker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(cci::cci_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Straight Connector 28"/>
          <p:cNvSpPr/>
          <p:nvPr/>
        </p:nvSpPr>
        <p:spPr>
          <a:xfrm flipH="1">
            <a:off x="723744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5"/>
          <p:cNvSpPr/>
          <p:nvPr/>
        </p:nvSpPr>
        <p:spPr>
          <a:xfrm>
            <a:off x="6095880" y="1600200"/>
            <a:ext cx="2819520" cy="1143000"/>
          </a:xfrm>
          <a:prstGeom prst="flowChartDocumen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6629400" y="2666880"/>
            <a:ext cx="163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figuration_Fi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590400" y="1827720"/>
            <a:ext cx="451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ci::cnf::cci_configFile_Tool configTool("configFileTool");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figTool.config("Configuration_File.txt"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304920" y="914400"/>
            <a:ext cx="2438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47"/>
          <p:cNvSpPr/>
          <p:nvPr/>
        </p:nvSpPr>
        <p:spPr>
          <a:xfrm>
            <a:off x="4038480" y="2882880"/>
            <a:ext cx="4800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list of unconsumed preset values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onsumed_parameter_list = m_broker.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unconsumed_preset_value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2438280" y="2577960"/>
            <a:ext cx="1905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EOE phas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3200400" y="43434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4038480" y="45720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 the list of parameter names for which there are unconsumed preset values: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3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4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Straight Connector 28"/>
          <p:cNvSpPr/>
          <p:nvPr/>
        </p:nvSpPr>
        <p:spPr>
          <a:xfrm flipH="1">
            <a:off x="1523520" y="1676520"/>
            <a:ext cx="180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4038480" y="1447920"/>
            <a:ext cx="5105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param_handles(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trieve list of all cci-parameters within model.  Store result in a std::vect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_parameter_list =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.get_param_handles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8_Superset_Parameter_Value_Specification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880" y="1514160"/>
            <a:ext cx="86868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1' to '1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2' to '2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3' to '3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4' to '400‘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List of all parameters in the mod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List of parameter names with unconsumed preset valu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40:57Z</dcterms:modified>
  <cp:revision>20</cp:revision>
  <dc:subject/>
  <dc:title>ex18_Superset_Parameter_Value_Specifi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0:57Z</vt:lpwstr>
  </property>
  <property fmtid="{D5CDD505-2E9C-101B-9397-08002B2CF9AE}" pid="5" name="TitusGUID">
    <vt:lpwstr>407613b7-d1ea-43f3-af1c-aef363dad956</vt:lpwstr>
  </property>
</Properties>
</file>