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853920" y="744120"/>
            <a:ext cx="4959360" cy="37213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412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377784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E32716-B98E-41A0-A668-CEDDB4D211E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824879-5F66-47C1-BF86-EF027C317C5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1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E47D82-3FDE-447D-92BB-F8A1878B7B4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Text Box 3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88C16E-22A7-482C-9F1F-0CDE554D63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32" name="Text Box 2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BD06311-C57C-49FE-AF3E-76A69B4D5A8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ED2960-F28D-4755-BD96-ACB47DA15AB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Text Box 2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918D1BE-16BD-4DF1-B2A6-7B1D5D0ACF8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047FF3-AD0C-4316-9991-F433F81295A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Text Box 2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5A02D3-A6A3-4FD0-91B6-C6AAC216CB5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62F45F-79FA-4D74-B7C9-B3E6186ED52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4" name="Text Box 2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389FAFF-74D4-49C9-A948-6FE35606B53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3BDBF4-8032-4FDD-AB5F-F0E2ECC61C0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Text Box 2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A43A116-1C8E-4540-894C-6DB570D0520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3ABD9-8463-413B-BE54-1BCF9FBB0A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2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81B93-833C-4665-9AC5-0A7A8BB35B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156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014EE-E9FE-46FA-804D-E4194A8ECF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740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428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740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428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C28BE-4C22-45D1-A4A2-BF0AB3EA17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5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FB25B-A0F4-47D1-9E73-F69B694344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156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2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156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740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428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740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428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24F9B-485C-4B2F-ABEE-570746EF57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57833-8E5E-4C37-BC52-31D154FE29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00447-57FC-497F-8039-07EFB6ABA3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5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EB0CD-F8B8-41C3-98DB-674897F494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27609-571B-4F0A-8818-6A03C445BD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156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70052-A8A5-432C-8BDF-DDEE0AA83E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25DE2-E730-45B8-B41C-4FE0E38876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econd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Third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Fourth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337440"/>
            <a:ext cx="12175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C59805-0CD5-456B-A8F7-E697428B3F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efault vs. Preset Values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shal Go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 20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efault vs. Preset values of a parame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30200" indent="-32400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108080"/>
                <a:tab algn="l" pos="2022480"/>
                <a:tab algn="l" pos="2936880"/>
                <a:tab algn="l" pos="3851280"/>
                <a:tab algn="l" pos="4765680"/>
                <a:tab algn="l" pos="5680080"/>
                <a:tab algn="l" pos="6594480"/>
                <a:tab algn="l" pos="7508880"/>
                <a:tab algn="l" pos="8423280"/>
                <a:tab algn="l" pos="9337680"/>
                <a:tab algn="l" pos="102520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Demonstrate relative precedence of default (supplied to parameter constructor) and preset (via name-based broker access prior to construction) valu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108080"/>
                <a:tab algn="l" pos="2022480"/>
                <a:tab algn="l" pos="2936880"/>
                <a:tab algn="l" pos="3851280"/>
                <a:tab algn="l" pos="4765680"/>
                <a:tab algn="l" pos="5680080"/>
                <a:tab algn="l" pos="6594480"/>
                <a:tab algn="l" pos="7508880"/>
                <a:tab algn="l" pos="8423280"/>
                <a:tab algn="l" pos="9337680"/>
                <a:tab algn="l" pos="102520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User module specifies some default value for different parameters in respective constructo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108080"/>
                <a:tab algn="l" pos="2022480"/>
                <a:tab algn="l" pos="2936880"/>
                <a:tab algn="l" pos="3851280"/>
                <a:tab algn="l" pos="4765680"/>
                <a:tab algn="l" pos="5680080"/>
                <a:tab algn="l" pos="6594480"/>
                <a:tab algn="l" pos="7508880"/>
                <a:tab algn="l" pos="8423280"/>
                <a:tab algn="l" pos="9337680"/>
                <a:tab algn="l" pos="102520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et one of the parameters to a different value from a tool/configurator, before the user module’s construc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1108080"/>
                <a:tab algn="l" pos="2022480"/>
                <a:tab algn="l" pos="2936880"/>
                <a:tab algn="l" pos="3851280"/>
                <a:tab algn="l" pos="4765680"/>
                <a:tab algn="l" pos="5680080"/>
                <a:tab algn="l" pos="6594480"/>
                <a:tab algn="l" pos="7508880"/>
                <a:tab algn="l" pos="8423280"/>
                <a:tab algn="l" pos="9337680"/>
                <a:tab algn="l" pos="102520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Report the various parameters’ name (hierarchical) and value in the constructor and at the end of simul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1108080"/>
                <a:tab algn="l" pos="2022480"/>
                <a:tab algn="l" pos="2936880"/>
                <a:tab algn="l" pos="3851280"/>
                <a:tab algn="l" pos="4765680"/>
                <a:tab algn="l" pos="5680080"/>
                <a:tab algn="l" pos="6594480"/>
                <a:tab algn="l" pos="7508880"/>
                <a:tab algn="l" pos="8423280"/>
                <a:tab algn="l" pos="9337680"/>
                <a:tab algn="l" pos="102520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Demonstrate the reporting of unconsumed preset values with filtering func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2141640" y="1546200"/>
            <a:ext cx="1989000" cy="420840"/>
          </a:xfrm>
          <a:prstGeom prst="rect">
            <a:avLst/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5" name="AutoShape 4"/>
          <p:cNvCxnSpPr>
            <a:stCxn id="93" idx="2"/>
          </p:cNvCxnSpPr>
          <p:nvPr/>
        </p:nvCxnSpPr>
        <p:spPr>
          <a:xfrm flipH="1">
            <a:off x="3134520" y="1966680"/>
            <a:ext cx="2520" cy="402660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AutoShape 5"/>
          <p:cNvCxnSpPr>
            <a:stCxn id="94" idx="2"/>
          </p:cNvCxnSpPr>
          <p:nvPr/>
        </p:nvCxnSpPr>
        <p:spPr>
          <a:xfrm flipH="1">
            <a:off x="6449760" y="1666800"/>
            <a:ext cx="2160" cy="436968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AutoShape 6"/>
          <p:cNvSpPr/>
          <p:nvPr/>
        </p:nvSpPr>
        <p:spPr>
          <a:xfrm>
            <a:off x="1138320" y="3097080"/>
            <a:ext cx="1735200" cy="34776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param_1=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236880" y="2008080"/>
            <a:ext cx="187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Constru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8"/>
          <p:cNvSpPr/>
          <p:nvPr/>
        </p:nvSpPr>
        <p:spPr>
          <a:xfrm>
            <a:off x="3176640" y="2743200"/>
            <a:ext cx="2979720" cy="26496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ff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param_1(“param_1”, 1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9"/>
          <p:cNvSpPr/>
          <p:nvPr/>
        </p:nvSpPr>
        <p:spPr>
          <a:xfrm>
            <a:off x="797040" y="5433840"/>
            <a:ext cx="2173320" cy="55908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param_1, param_2 ‘Owner’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10"/>
          <p:cNvSpPr/>
          <p:nvPr/>
        </p:nvSpPr>
        <p:spPr>
          <a:xfrm>
            <a:off x="4068720" y="538956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param_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11"/>
          <p:cNvSpPr/>
          <p:nvPr/>
        </p:nvSpPr>
        <p:spPr>
          <a:xfrm>
            <a:off x="3179880" y="3076560"/>
            <a:ext cx="2979720" cy="26208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param_2(“param_2”, 2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12"/>
          <p:cNvSpPr/>
          <p:nvPr/>
        </p:nvSpPr>
        <p:spPr>
          <a:xfrm>
            <a:off x="1173240" y="3537000"/>
            <a:ext cx="1735200" cy="34776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param_2=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13"/>
          <p:cNvSpPr/>
          <p:nvPr/>
        </p:nvSpPr>
        <p:spPr>
          <a:xfrm>
            <a:off x="4572000" y="1960560"/>
            <a:ext cx="4444920" cy="30492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broker.set_preset_cci_value(“sim_ip.param_1”, “10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14"/>
          <p:cNvSpPr/>
          <p:nvPr/>
        </p:nvSpPr>
        <p:spPr>
          <a:xfrm>
            <a:off x="6742080" y="4149720"/>
            <a:ext cx="1933560" cy="763560"/>
          </a:xfrm>
          <a:prstGeom prst="wedgeRoundRectCallout">
            <a:avLst>
              <a:gd name="adj1" fmla="val -77194"/>
              <a:gd name="adj2" fmla="val -204425"/>
              <a:gd name="adj3" fmla="val 16667"/>
            </a:avLst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preset value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takes precedence over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default value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(see param_1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13"/>
          <p:cNvSpPr/>
          <p:nvPr/>
        </p:nvSpPr>
        <p:spPr>
          <a:xfrm>
            <a:off x="4572000" y="2290680"/>
            <a:ext cx="4444920" cy="30492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broker.set_preset_cci_value(“cfg_ip.param_implicit_3”, “3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14"/>
          <p:cNvSpPr/>
          <p:nvPr/>
        </p:nvSpPr>
        <p:spPr>
          <a:xfrm>
            <a:off x="6948360" y="2976480"/>
            <a:ext cx="2119320" cy="244440"/>
          </a:xfrm>
          <a:prstGeom prst="wedgeRoundRectCallout">
            <a:avLst>
              <a:gd name="adj1" fmla="val -42587"/>
              <a:gd name="adj2" fmla="val -200282"/>
              <a:gd name="adj3" fmla="val 16667"/>
            </a:avLst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Unconsumed preset valu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2133720" y="1246320"/>
            <a:ext cx="1989000" cy="420480"/>
          </a:xfrm>
          <a:prstGeom prst="rect">
            <a:avLst/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1" name="AutoShape 4"/>
          <p:cNvCxnSpPr>
            <a:stCxn id="109" idx="2"/>
          </p:cNvCxnSpPr>
          <p:nvPr/>
        </p:nvCxnSpPr>
        <p:spPr>
          <a:xfrm>
            <a:off x="3126960" y="1666440"/>
            <a:ext cx="2520" cy="432684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AutoShape 5"/>
          <p:cNvCxnSpPr>
            <a:stCxn id="110" idx="2"/>
          </p:cNvCxnSpPr>
          <p:nvPr/>
        </p:nvCxnSpPr>
        <p:spPr>
          <a:xfrm flipH="1">
            <a:off x="6449760" y="1666800"/>
            <a:ext cx="2160" cy="436968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Text Box 7"/>
          <p:cNvSpPr/>
          <p:nvPr/>
        </p:nvSpPr>
        <p:spPr>
          <a:xfrm>
            <a:off x="241560" y="1697040"/>
            <a:ext cx="162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Simu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9"/>
          <p:cNvSpPr/>
          <p:nvPr/>
        </p:nvSpPr>
        <p:spPr>
          <a:xfrm>
            <a:off x="797040" y="5433840"/>
            <a:ext cx="2173320" cy="55908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param_1, param_2 ‘Owner’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10"/>
          <p:cNvSpPr/>
          <p:nvPr/>
        </p:nvSpPr>
        <p:spPr>
          <a:xfrm>
            <a:off x="4068720" y="538956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param_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15"/>
          <p:cNvSpPr/>
          <p:nvPr/>
        </p:nvSpPr>
        <p:spPr>
          <a:xfrm>
            <a:off x="5391000" y="2036880"/>
            <a:ext cx="3456000" cy="30456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cci-&gt;set_init_value(“sim_ip.param_1”, “5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16"/>
          <p:cNvSpPr/>
          <p:nvPr/>
        </p:nvSpPr>
        <p:spPr>
          <a:xfrm>
            <a:off x="6659640" y="2736720"/>
            <a:ext cx="2222280" cy="763560"/>
          </a:xfrm>
          <a:prstGeom prst="wedgeRoundRectCallout">
            <a:avLst>
              <a:gd name="adj1" fmla="val 48055"/>
              <a:gd name="adj2" fmla="val -107018"/>
              <a:gd name="adj3" fmla="val 16667"/>
            </a:avLst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preset value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set after construction does not affect parameter valu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13"/>
          <p:cNvSpPr/>
          <p:nvPr/>
        </p:nvSpPr>
        <p:spPr>
          <a:xfrm>
            <a:off x="755640" y="2521080"/>
            <a:ext cx="4392720" cy="30456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broker.set_init_value(“param_implicit_1”, “1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13"/>
          <p:cNvSpPr/>
          <p:nvPr/>
        </p:nvSpPr>
        <p:spPr>
          <a:xfrm>
            <a:off x="755640" y="2876400"/>
            <a:ext cx="4392720" cy="30492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broker.set_init_value(“foo.bar.baz.param_implicit_2”, “2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ight Brace 2"/>
          <p:cNvSpPr/>
          <p:nvPr/>
        </p:nvSpPr>
        <p:spPr>
          <a:xfrm>
            <a:off x="5148360" y="2635200"/>
            <a:ext cx="187200" cy="482760"/>
          </a:xfrm>
          <a:custGeom>
            <a:avLst/>
            <a:gdLst>
              <a:gd name="textAreaLeft" fmla="*/ 0 w 187200"/>
              <a:gd name="textAreaRight" fmla="*/ 67680 w 187200"/>
              <a:gd name="textAreaTop" fmla="*/ 4680 h 482760"/>
              <a:gd name="textAreaBottom" fmla="*/ 478080 h 482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50"/>
                  <a:pt x="10800" y="699"/>
                </a:cubicBezTo>
                <a:lnTo>
                  <a:pt x="10800" y="10448"/>
                </a:lnTo>
                <a:cubicBezTo>
                  <a:pt x="10800" y="10798"/>
                  <a:pt x="16200" y="11147"/>
                  <a:pt x="21600" y="11147"/>
                </a:cubicBezTo>
                <a:cubicBezTo>
                  <a:pt x="16200" y="11147"/>
                  <a:pt x="10800" y="11497"/>
                  <a:pt x="10800" y="11846"/>
                </a:cubicBezTo>
                <a:lnTo>
                  <a:pt x="10800" y="20901"/>
                </a:lnTo>
                <a:cubicBezTo>
                  <a:pt x="10800" y="21251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14"/>
          <p:cNvSpPr/>
          <p:nvPr/>
        </p:nvSpPr>
        <p:spPr>
          <a:xfrm>
            <a:off x="3851280" y="3446640"/>
            <a:ext cx="2195640" cy="342720"/>
          </a:xfrm>
          <a:prstGeom prst="wedgeRoundRectCallout">
            <a:avLst>
              <a:gd name="adj1" fmla="val 20902"/>
              <a:gd name="adj2" fmla="val -218759"/>
              <a:gd name="adj3" fmla="val 16667"/>
            </a:avLst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Unconsumed preset valu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en-US" sz="3000" spc="-1" strike="noStrike">
                <a:solidFill>
                  <a:srgbClr val="000099"/>
                </a:solidFill>
                <a:latin typeface="Courier New"/>
              </a:rPr>
              <a:t>ex05_Default_and_Preset_Value.log</a:t>
            </a: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2"/>
          <p:cNvSpPr/>
          <p:nvPr/>
        </p:nvSpPr>
        <p:spPr>
          <a:xfrm>
            <a:off x="380880" y="1413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SystemC Simul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cfg_ip: @0 s, Attempting to setup config_ip to 10 before IP constru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cfg_ip: @0 s, Setting up sim_ip.param_1's preset value to 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cfg_ip: @0 s, Setting up cfg_ip.param_implicit_3's preset value to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@Ctor: Value of sim_ip.param_1 is 10 (Default value Specified: 1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@Ctor: Value of sim_ip.param_2 is 2 (Default value Specified: 2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c_main: Begin Simul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cfg_ip: @0 s, execute: [EXTERNAL] Current value of sim_ip.param_1 is 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Setting up param_implicit_1's preset value to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Setting up foo.bar.baz.param_implicit_2's preset value to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Unconsumed preset cci value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cfg_ip.param_implicit_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foo.bar.baz.param_implicit_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param_implicit_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Ignore unconsumed values cfg_ip.*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Unconsumed preset cci values result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380880" y="134136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foo.bar.baz.param_implicit_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param_implicit_1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Unconsumed preset cci values with value = 2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foo.bar.baz.param_implicit_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c_main: End Simulation.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Dtor: Value of sim_ip.param_1 is 10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Dtor: Value of sim_ip.param_2 is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17-01-29T17:21:23Z</cp:lastPrinted>
  <dcterms:modified xsi:type="dcterms:W3CDTF">2017-12-15T17:44:00Z</dcterms:modified>
  <cp:revision>158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5 17:43:59Z</vt:lpwstr>
  </property>
  <property fmtid="{D5CDD505-2E9C-101B-9397-08002B2CF9AE}" pid="5" name="TitusGUID">
    <vt:lpwstr>76883866-3039-4c24-b240-4506b7a28644</vt:lpwstr>
  </property>
</Properties>
</file>