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AutoShape 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AutoShape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AutoShape 1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AutoShape 1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AutoShape 1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AutoShape 1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AutoShape 1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AutoShape 1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AutoShape 1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AutoShape 1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AutoShape 1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Rectangle 20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Freeform 2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Freeform 2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Freeform 2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Freeform 2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Freeform 2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Freeform 2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Freeform 2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Freeform 2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Freeform 3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Freeform 3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Freeform 3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Freeform 3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Freeform 3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Freeform 3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Freeform 3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Freeform 3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Freeform 3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Freeform 3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Freeform 4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Freeform 4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Freeform 4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Freeform 4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Freeform 4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Freeform 4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Freeform 4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Freeform 4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Freeform 4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Freeform 4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Freeform 5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Freeform 51"/>
          <p:cNvSpPr/>
          <p:nvPr/>
        </p:nvSpPr>
        <p:spPr>
          <a:xfrm>
            <a:off x="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Freeform 52"/>
          <p:cNvSpPr/>
          <p:nvPr/>
        </p:nvSpPr>
        <p:spPr>
          <a:xfrm>
            <a:off x="388476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494240" cy="33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Freeform 55"/>
          <p:cNvSpPr/>
          <p:nvPr/>
        </p:nvSpPr>
        <p:spPr>
          <a:xfrm>
            <a:off x="0" y="868536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470563-18E6-4B7D-AB07-570AF804A6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941019-EE7D-456E-8B7B-322101309F1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3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E16446-AB22-4DDE-B23E-7FB593ED4DD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4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84C4DA-49BF-4610-BF6C-C9F23B1C436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5" name="AutoShape 3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8F9B23-5E6D-4729-8709-D1FB30E8893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55600" y="685800"/>
            <a:ext cx="4469040" cy="335124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305" name="Slide Number Placeholder 3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7E5C34-BD05-40FE-A6CC-8139B724AFB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825EC2-1983-4DC4-869F-0F57FDCE9D3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9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408995-EEC2-4FDA-8418-56CB448B1EE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0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9F394B-586C-41D8-A3E2-11757D2731C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57BF17-72DB-4402-839F-EF6C07D1B08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52E4DF-F4B5-4D80-8593-68C4C62EED6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5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3D3E59-0B1B-42F6-8C17-AED2CC3AD57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6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C8B8A8-7B8A-443B-9C65-4EBF4926B92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EEF2E9-DC44-4890-B653-6B1E9D4CC94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DA2A39-77FF-4FDE-BAD5-93BAE778D13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1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DCA88A-2CE8-4F71-85FC-D0870F6B856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2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F84F1F-1F03-41D2-B91B-2AE35E3268E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C7EB6B-9C7F-4DF6-A9B4-2387F0E2FF8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07C9E5-1964-462B-AF71-51777275293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7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5E476B-FA30-4F32-921A-73DC4F100BF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8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798E10-4B81-41A5-B419-2B7F7CE3F84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7BF948-E787-462E-A7AB-67F32C7F0C3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4B3F1D-A238-4216-90D5-5280E11E0D6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3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4932FA-35FF-4943-B451-3E63A545E2F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4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CF3AE0-321D-41C2-93F3-73C884F7691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2CB632-0EAE-42E6-BD75-BAF72CCB859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477CF5-DF38-457E-89F1-DDEB47A7942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9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36D079-CA75-46F4-9ABC-F7278B61BD2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0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FE5E02-589A-4DF0-B626-2F5404B9AE7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6BCD46-4350-46B0-B2C0-B94580305F7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4DD763-381D-45BC-ADE0-DE47FA0170D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5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16AA5D-049F-400C-AA6E-4BD6027F9CB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6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F9AE61-7066-4BB7-A9F8-D44589D639D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A81390-9DE2-4006-BD2B-68B5CD34842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55600" y="685800"/>
            <a:ext cx="4469040" cy="335124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302" name="Slide Number Placeholder 3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48D0AD-DA5B-4A5F-B019-1B5D17F2948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9CC3E-268A-4467-B105-CC23E53CB7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C8201-C5C6-4EB4-BB9F-F81BBAA0AC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79DD6-ED19-4D5F-8298-12EB2CFB10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7D7A5-2F34-4363-BBF5-D4E66B35D0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C7D66-48EB-4B92-9C34-7F8F8D4ED1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E950A4-9098-4FC2-B12E-8E37BEC49C3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AC2348-E677-42DD-BE55-A21B8FD3EB1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83E49D-7364-4C79-9A4C-609CD142E8B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6FB4B0-2537-4910-8D4F-1D1FF0D7BA7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2C928B-B7F7-470E-8E97-D246E1EF67B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E7F41-6D00-44C3-BFEE-38FBB08A374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E0838E-62E0-4159-BE85-AE0DDA1F5F6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3DB0D9-2006-4B66-9123-DD53E9D33FB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6D9F86-1A9E-4E09-9E2F-3960D0CC490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E2E300-917D-4ED8-9721-25D49766979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F55D27-CF55-450A-9653-F45DA38EA5E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D0D225-03EB-4716-829E-001D1EF2239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F38C68-6A46-4C19-9710-ECA80C661D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390FE-69C5-4868-8423-372928729E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91DB2-F514-43E8-8BED-8F4B1B0621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5B378-478E-4F0A-BA38-C1D168FCA8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E2FE1-5ED8-4B37-B0CA-39183D33D4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12819-C2A1-4959-8E31-1E503E197B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48290-9738-4373-9988-23A752CB08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287760"/>
            <a:ext cx="1141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7741A3-7E0C-4DD5-8735-64934AC2B66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760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760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2"/>
          </p:nvPr>
        </p:nvSpPr>
        <p:spPr>
          <a:xfrm>
            <a:off x="228600" y="6288120"/>
            <a:ext cx="11397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fld id="{DD861E88-98DD-4D21-8107-47A14370C58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507960" y="3359160"/>
            <a:ext cx="833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Tracing Parameter Activity</a:t>
            </a:r>
            <a:br>
              <a:rPr sz="3000"/>
            </a:b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SystemC CCI WG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3352680" y="4876920"/>
            <a:ext cx="56390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 V S Phaneendr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ircuitSutra Technologies Pvt. Ltd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v 2011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80880" y="15145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create_param_cb] : Retrieving handle for newly created cci_paramet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create_param_cb] : Parameter Name : param_owner.doubl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has been created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create_param_cb] : Parameter Value : 12.34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create_param_cb] : Registering other callbacks on the newly created cci-parameter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AutoShape 1"/>
          <p:cNvSpPr/>
          <p:nvPr/>
        </p:nvSpPr>
        <p:spPr>
          <a:xfrm>
            <a:off x="304920" y="220680"/>
            <a:ext cx="861840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racing Parameter Activit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AutoShape 2"/>
          <p:cNvSpPr/>
          <p:nvPr/>
        </p:nvSpPr>
        <p:spPr>
          <a:xfrm>
            <a:off x="554040" y="1249200"/>
            <a:ext cx="8072280" cy="3886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Objective of the present example is to demonstrate the following 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696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Configurator perspective: show how to use the parameter creation callback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696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Report the creation and modification of parameter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33"/>
          <p:cNvSpPr/>
          <p:nvPr/>
        </p:nvSpPr>
        <p:spPr>
          <a:xfrm>
            <a:off x="609480" y="3733920"/>
            <a:ext cx="28958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ameter_owner modu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Rectangle 34"/>
          <p:cNvSpPr/>
          <p:nvPr/>
        </p:nvSpPr>
        <p:spPr>
          <a:xfrm>
            <a:off x="6095880" y="3733920"/>
            <a:ext cx="26672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bserver clas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Rectangle 37"/>
          <p:cNvSpPr/>
          <p:nvPr/>
        </p:nvSpPr>
        <p:spPr>
          <a:xfrm>
            <a:off x="457200" y="685800"/>
            <a:ext cx="26668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ain.cpp (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testbench file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Rectangle 38"/>
          <p:cNvSpPr/>
          <p:nvPr/>
        </p:nvSpPr>
        <p:spPr>
          <a:xfrm>
            <a:off x="457200" y="1066680"/>
            <a:ext cx="8001000" cy="1524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Initialize and register global broker</a:t>
            </a:r>
            <a:br>
              <a:rPr sz="1500"/>
            </a:br>
            <a:r>
              <a:rPr b="0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</a:t>
            </a:r>
            <a:r>
              <a:rPr b="1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ci::cci_register_broker(new cci_utils::broker(“My Global Broker”));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Instantiate the </a:t>
            </a:r>
            <a:r>
              <a:rPr b="0" i="1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observer</a:t>
            </a:r>
            <a:r>
              <a:rPr b="0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class (which registers various callbacks to trace cci-parameters </a:t>
            </a:r>
            <a:br>
              <a:rPr sz="1500"/>
            </a:br>
            <a:r>
              <a:rPr b="0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  activities)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Later, instantiate the </a:t>
            </a:r>
            <a:r>
              <a:rPr b="0" i="1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arameter_owner</a:t>
            </a:r>
            <a:r>
              <a:rPr b="0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module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i="1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observer</a:t>
            </a:r>
            <a:r>
              <a:rPr b="1" i="1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i="1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observer_inst;</a:t>
            </a:r>
            <a:r>
              <a:rPr b="0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                                                // A simple C++ Class</a:t>
            </a:r>
            <a:br>
              <a:rPr sz="1500"/>
            </a:br>
            <a:r>
              <a:rPr b="0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i="1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arameter_owner</a:t>
            </a:r>
            <a:r>
              <a:rPr b="1" i="1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i="1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aram_owner(“param_owner”);</a:t>
            </a:r>
            <a:r>
              <a:rPr b="0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        </a:t>
            </a:r>
            <a:r>
              <a:rPr b="1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// </a:t>
            </a:r>
            <a:r>
              <a:rPr b="0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arameter Owner module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Rectangle 40"/>
          <p:cNvSpPr/>
          <p:nvPr/>
        </p:nvSpPr>
        <p:spPr>
          <a:xfrm>
            <a:off x="3733920" y="2666880"/>
            <a:ext cx="17524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n.cpp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88" name="Straight Arrow Connector 43"/>
          <p:cNvCxnSpPr>
            <a:stCxn id="187" idx="2"/>
            <a:endCxn id="183" idx="0"/>
          </p:cNvCxnSpPr>
          <p:nvPr/>
        </p:nvCxnSpPr>
        <p:spPr>
          <a:xfrm flipH="1">
            <a:off x="2057040" y="3047760"/>
            <a:ext cx="255312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89" name="Straight Arrow Connector 45"/>
          <p:cNvCxnSpPr>
            <a:stCxn id="187" idx="2"/>
            <a:endCxn id="184" idx="0"/>
          </p:cNvCxnSpPr>
          <p:nvPr/>
        </p:nvCxnSpPr>
        <p:spPr>
          <a:xfrm>
            <a:off x="4610160" y="3047760"/>
            <a:ext cx="282024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90" name="Rectangle 46"/>
          <p:cNvSpPr/>
          <p:nvPr/>
        </p:nvSpPr>
        <p:spPr>
          <a:xfrm>
            <a:off x="228600" y="4267080"/>
            <a:ext cx="4267080" cy="12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OLE 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Instantiate few cci-parameter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ci::cnf::cci_param&lt;int&gt;    *      int_param;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ci::cnf::cci_param&lt;float&gt; *     float_param;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Make changes to their values during simulation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Rectangle 47"/>
          <p:cNvSpPr/>
          <p:nvPr/>
        </p:nvSpPr>
        <p:spPr>
          <a:xfrm>
            <a:off x="4724280" y="4114800"/>
            <a:ext cx="4191120" cy="152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OLE 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Get handle for the </a:t>
            </a:r>
            <a:r>
              <a:rPr b="0" i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global broker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gister callbacks for notifying creation of new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ci-parameter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gister other callback by getting hold of the 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arameter handle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Straight Connector 28"/>
          <p:cNvSpPr/>
          <p:nvPr/>
        </p:nvSpPr>
        <p:spPr>
          <a:xfrm flipH="1">
            <a:off x="7237440" y="41148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Rectangle 20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Straight Connector 28"/>
          <p:cNvSpPr/>
          <p:nvPr/>
        </p:nvSpPr>
        <p:spPr>
          <a:xfrm>
            <a:off x="2286000" y="41911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AutoShape 1"/>
          <p:cNvSpPr/>
          <p:nvPr/>
        </p:nvSpPr>
        <p:spPr>
          <a:xfrm>
            <a:off x="304920" y="220680"/>
            <a:ext cx="861840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traight Connector 28"/>
          <p:cNvSpPr/>
          <p:nvPr/>
        </p:nvSpPr>
        <p:spPr>
          <a:xfrm flipH="1">
            <a:off x="6934320" y="1523880"/>
            <a:ext cx="1440" cy="44974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Rectangle 34"/>
          <p:cNvSpPr/>
          <p:nvPr/>
        </p:nvSpPr>
        <p:spPr>
          <a:xfrm>
            <a:off x="5410080" y="838080"/>
            <a:ext cx="266724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bserver clas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8" name="Rectangle 13"/>
          <p:cNvSpPr/>
          <p:nvPr/>
        </p:nvSpPr>
        <p:spPr>
          <a:xfrm>
            <a:off x="2666880" y="1143000"/>
            <a:ext cx="2743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Within Constructors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Straight Connector 28"/>
          <p:cNvSpPr/>
          <p:nvPr/>
        </p:nvSpPr>
        <p:spPr>
          <a:xfrm flipH="1">
            <a:off x="1598760" y="1676520"/>
            <a:ext cx="1440" cy="411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Rectangle 15"/>
          <p:cNvSpPr/>
          <p:nvPr/>
        </p:nvSpPr>
        <p:spPr>
          <a:xfrm>
            <a:off x="2971800" y="1828800"/>
            <a:ext cx="5867280" cy="13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Get global broker hand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ci::cnf::cci_originator observer_originator("observer");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ci::cci_broker_handle(</a:t>
            </a:r>
            <a:r>
              <a:rPr b="1" i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ci::cci_get_global_broker(observer_originator)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Rectangle 15"/>
          <p:cNvSpPr/>
          <p:nvPr/>
        </p:nvSpPr>
        <p:spPr>
          <a:xfrm>
            <a:off x="2819520" y="3733920"/>
            <a:ext cx="6248160" cy="167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gister a callback to notify the creation of cci-parameters of the parameter_owner modules</a:t>
            </a:r>
            <a:br>
              <a:rPr sz="1400"/>
            </a:b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m_broker.register_create_callback(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sc_bind(&amp;ex20_observer::config_new_param_callback,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this,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sc_unnamed::_1)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Rectangle 33"/>
          <p:cNvSpPr/>
          <p:nvPr/>
        </p:nvSpPr>
        <p:spPr>
          <a:xfrm>
            <a:off x="152280" y="914400"/>
            <a:ext cx="28958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ameter_owner modu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AutoShape 1"/>
          <p:cNvSpPr/>
          <p:nvPr/>
        </p:nvSpPr>
        <p:spPr>
          <a:xfrm>
            <a:off x="304920" y="220680"/>
            <a:ext cx="861840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1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Straight Connector 28"/>
          <p:cNvSpPr/>
          <p:nvPr/>
        </p:nvSpPr>
        <p:spPr>
          <a:xfrm flipH="1">
            <a:off x="6934320" y="1523880"/>
            <a:ext cx="1440" cy="44974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Rectangle 34"/>
          <p:cNvSpPr/>
          <p:nvPr/>
        </p:nvSpPr>
        <p:spPr>
          <a:xfrm>
            <a:off x="5410080" y="838080"/>
            <a:ext cx="266724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bserver clas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Rectangle 13"/>
          <p:cNvSpPr/>
          <p:nvPr/>
        </p:nvSpPr>
        <p:spPr>
          <a:xfrm>
            <a:off x="4800600" y="1600200"/>
            <a:ext cx="35812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6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Various other callbacks registration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Straight Connector 28"/>
          <p:cNvSpPr/>
          <p:nvPr/>
        </p:nvSpPr>
        <p:spPr>
          <a:xfrm flipH="1">
            <a:off x="1598760" y="1676520"/>
            <a:ext cx="1440" cy="411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Rectangle 14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Rectangle 33"/>
          <p:cNvSpPr/>
          <p:nvPr/>
        </p:nvSpPr>
        <p:spPr>
          <a:xfrm>
            <a:off x="304920" y="838080"/>
            <a:ext cx="28954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ameter_owner modu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Rectangle 15"/>
          <p:cNvSpPr/>
          <p:nvPr/>
        </p:nvSpPr>
        <p:spPr>
          <a:xfrm>
            <a:off x="2057400" y="2057400"/>
            <a:ext cx="7010280" cy="373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Within the callback implementation of the </a:t>
            </a:r>
            <a:r>
              <a:rPr b="1" i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onfig_new_param_callback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function, register other callback functions for monitoring </a:t>
            </a:r>
            <a:r>
              <a:rPr b="0" i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ad, write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activities on to the cci-parameter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 // Get reference of newly created cci-parameter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bserver_base_handle = m_broker.get_param_handle(param_handle.get_name()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// Register pre-read, pre/post-write callback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bserver_cb.push_back(observer_base_handle.register_pre_read_callback(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&amp;ex20_observer::pre_read_callback,this)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bserver_cb.push_back(observer_base_handle.register_pre_write_callback(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&amp;ex20_observer::pre_write_callback,this)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bserver_cb.push_back(observer_base_handle.register_post_write_callback(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&amp;ex20_observer::post_write_callback,this)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2" name="Rectangle 13"/>
          <p:cNvSpPr/>
          <p:nvPr/>
        </p:nvSpPr>
        <p:spPr>
          <a:xfrm>
            <a:off x="2743200" y="1066680"/>
            <a:ext cx="2743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Within Constructors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3" name="AutoShape 1"/>
          <p:cNvSpPr/>
          <p:nvPr/>
        </p:nvSpPr>
        <p:spPr>
          <a:xfrm>
            <a:off x="304920" y="220680"/>
            <a:ext cx="861840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2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Straight Connector 28"/>
          <p:cNvSpPr/>
          <p:nvPr/>
        </p:nvSpPr>
        <p:spPr>
          <a:xfrm flipH="1">
            <a:off x="6934320" y="1523880"/>
            <a:ext cx="1440" cy="44974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Rectangle 34"/>
          <p:cNvSpPr/>
          <p:nvPr/>
        </p:nvSpPr>
        <p:spPr>
          <a:xfrm>
            <a:off x="5410080" y="838080"/>
            <a:ext cx="266724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bserver clas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Rectangle 13"/>
          <p:cNvSpPr/>
          <p:nvPr/>
        </p:nvSpPr>
        <p:spPr>
          <a:xfrm>
            <a:off x="2895480" y="1143000"/>
            <a:ext cx="2743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Within Constructors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Straight Connector 28"/>
          <p:cNvSpPr/>
          <p:nvPr/>
        </p:nvSpPr>
        <p:spPr>
          <a:xfrm flipH="1">
            <a:off x="1902960" y="1523880"/>
            <a:ext cx="1800" cy="411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8" name="Rectangle 9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Rectangle 33"/>
          <p:cNvSpPr/>
          <p:nvPr/>
        </p:nvSpPr>
        <p:spPr>
          <a:xfrm>
            <a:off x="304920" y="838080"/>
            <a:ext cx="28954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ameter_owner modu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0" name="Rectangle 15"/>
          <p:cNvSpPr/>
          <p:nvPr/>
        </p:nvSpPr>
        <p:spPr>
          <a:xfrm>
            <a:off x="380880" y="1676520"/>
            <a:ext cx="449604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et default value to the integer-type cci-parameter</a:t>
            </a:r>
            <a:br>
              <a:rPr sz="1400"/>
            </a:br>
            <a:br>
              <a:rPr sz="1400"/>
            </a:br>
            <a:r>
              <a:rPr b="1" i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int_param  =  new cci::cnf::cci_param&lt;int&gt;(“int_param”, 10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1" name="Rectangle 15"/>
          <p:cNvSpPr/>
          <p:nvPr/>
        </p:nvSpPr>
        <p:spPr>
          <a:xfrm>
            <a:off x="4724280" y="2514600"/>
            <a:ext cx="373392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ports :</a:t>
            </a:r>
            <a:br>
              <a:rPr sz="1400"/>
            </a:b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int_param</a:t>
            </a: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ci-parameter has been created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Rectangle 15"/>
          <p:cNvSpPr/>
          <p:nvPr/>
        </p:nvSpPr>
        <p:spPr>
          <a:xfrm>
            <a:off x="4724280" y="3276720"/>
            <a:ext cx="3733920" cy="76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trieves :</a:t>
            </a:r>
            <a:br>
              <a:rPr sz="1400"/>
            </a:b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Handle for the ‘int_param’ cci-parameter </a:t>
            </a:r>
            <a:br>
              <a:rPr sz="1400"/>
            </a:b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and stores it to new_param_hand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3" name="Rectangle 15"/>
          <p:cNvSpPr/>
          <p:nvPr/>
        </p:nvSpPr>
        <p:spPr>
          <a:xfrm>
            <a:off x="4724280" y="4114800"/>
            <a:ext cx="396252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gisters :</a:t>
            </a:r>
            <a:br>
              <a:rPr sz="1400"/>
            </a:b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pre_read callback using </a:t>
            </a:r>
            <a:r>
              <a:rPr b="1" i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new_param_handle</a:t>
            </a:r>
            <a:br>
              <a:rPr sz="1400"/>
            </a:br>
            <a:r>
              <a:rPr b="1" i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pre_write callback using new_param_handle</a:t>
            </a:r>
            <a:br>
              <a:rPr sz="1400"/>
            </a:br>
            <a:r>
              <a:rPr b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post_write callback using new_param_hand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4" name="AutoShape 1"/>
          <p:cNvSpPr/>
          <p:nvPr/>
        </p:nvSpPr>
        <p:spPr>
          <a:xfrm>
            <a:off x="304920" y="220680"/>
            <a:ext cx="861840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3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traight Connector 28"/>
          <p:cNvSpPr/>
          <p:nvPr/>
        </p:nvSpPr>
        <p:spPr>
          <a:xfrm flipH="1">
            <a:off x="6934320" y="1523880"/>
            <a:ext cx="1440" cy="44974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" name="Rectangle 34"/>
          <p:cNvSpPr/>
          <p:nvPr/>
        </p:nvSpPr>
        <p:spPr>
          <a:xfrm>
            <a:off x="5410080" y="838080"/>
            <a:ext cx="266724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bserver clas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7" name="Rectangle 16"/>
          <p:cNvSpPr/>
          <p:nvPr/>
        </p:nvSpPr>
        <p:spPr>
          <a:xfrm>
            <a:off x="3505320" y="1143000"/>
            <a:ext cx="9144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@ 0 ns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8" name="Straight Connector 28"/>
          <p:cNvSpPr/>
          <p:nvPr/>
        </p:nvSpPr>
        <p:spPr>
          <a:xfrm flipH="1">
            <a:off x="1902960" y="1523880"/>
            <a:ext cx="1800" cy="411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9" name="Rectangle 8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7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0" name="Rectangle 33"/>
          <p:cNvSpPr/>
          <p:nvPr/>
        </p:nvSpPr>
        <p:spPr>
          <a:xfrm>
            <a:off x="304920" y="838080"/>
            <a:ext cx="28954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ameter_owner modu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1" name="Rectangle 15"/>
          <p:cNvSpPr/>
          <p:nvPr/>
        </p:nvSpPr>
        <p:spPr>
          <a:xfrm>
            <a:off x="380880" y="1752480"/>
            <a:ext cx="304812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et  (arbitrary) new value to the </a:t>
            </a:r>
            <a:r>
              <a:rPr b="0" i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int_param</a:t>
            </a:r>
            <a:br>
              <a:rPr sz="1400"/>
            </a:br>
            <a:br>
              <a:rPr sz="1400"/>
            </a:br>
            <a:r>
              <a:rPr b="1" i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*int_param = 15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Rectangle 15"/>
          <p:cNvSpPr/>
          <p:nvPr/>
        </p:nvSpPr>
        <p:spPr>
          <a:xfrm>
            <a:off x="4648320" y="2362320"/>
            <a:ext cx="4038480" cy="144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ports :</a:t>
            </a:r>
            <a:br>
              <a:rPr sz="1400"/>
            </a:b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re_read activity on the ‘int_param’</a:t>
            </a:r>
            <a:br>
              <a:rPr sz="1400"/>
            </a:b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re_write activity on the ‘int_param’</a:t>
            </a:r>
            <a:br>
              <a:rPr sz="1400"/>
            </a:b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re_read activity on the ‘int_param’</a:t>
            </a:r>
            <a:br>
              <a:rPr sz="1400"/>
            </a:b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ost_write activity on the ‘int_param’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AutoShape 15"/>
          <p:cNvSpPr/>
          <p:nvPr/>
        </p:nvSpPr>
        <p:spPr>
          <a:xfrm>
            <a:off x="4191120" y="4419720"/>
            <a:ext cx="2438280" cy="990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675" y="2492"/>
                </a:moveTo>
                <a:lnTo>
                  <a:pt x="-5330" y="2492"/>
                </a:lnTo>
                <a:lnTo>
                  <a:pt x="-5330" y="-8688"/>
                </a:lnTo>
                <a:lnTo>
                  <a:pt x="8466" y="-21392"/>
                </a:lnTo>
              </a:path>
              <a:path w="21600" h="21600">
                <a:moveTo>
                  <a:pt x="-675" y="0"/>
                </a:moveTo>
                <a:lnTo>
                  <a:pt x="-675" y="2160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pre_read”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callback is called because value of the parameter is read within the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“pre_write”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&amp;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“post_write”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callback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4" name="AutoShape 1"/>
          <p:cNvSpPr/>
          <p:nvPr/>
        </p:nvSpPr>
        <p:spPr>
          <a:xfrm>
            <a:off x="304920" y="220680"/>
            <a:ext cx="861840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4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Straight Connector 28"/>
          <p:cNvSpPr/>
          <p:nvPr/>
        </p:nvSpPr>
        <p:spPr>
          <a:xfrm flipH="1">
            <a:off x="6934320" y="1523880"/>
            <a:ext cx="1440" cy="44974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Rectangle 34"/>
          <p:cNvSpPr/>
          <p:nvPr/>
        </p:nvSpPr>
        <p:spPr>
          <a:xfrm>
            <a:off x="5410080" y="838080"/>
            <a:ext cx="266724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bserver clas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7" name="Straight Connector 28"/>
          <p:cNvSpPr/>
          <p:nvPr/>
        </p:nvSpPr>
        <p:spPr>
          <a:xfrm flipH="1">
            <a:off x="1902960" y="1523880"/>
            <a:ext cx="1800" cy="411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Rectangle 7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8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9" name="Rectangle 33"/>
          <p:cNvSpPr/>
          <p:nvPr/>
        </p:nvSpPr>
        <p:spPr>
          <a:xfrm>
            <a:off x="304920" y="838080"/>
            <a:ext cx="28954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ameter_owner modu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0" name="Rectangle 15"/>
          <p:cNvSpPr/>
          <p:nvPr/>
        </p:nvSpPr>
        <p:spPr>
          <a:xfrm>
            <a:off x="380880" y="1676520"/>
            <a:ext cx="50292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reate and set default value to the float-type cci-parameter</a:t>
            </a:r>
            <a:br>
              <a:rPr sz="1400"/>
            </a:br>
            <a:br>
              <a:rPr sz="1400"/>
            </a:br>
            <a:r>
              <a:rPr b="1" i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float_param  =  new cci::cnf::cci_param&lt;int&gt;(“float_param”, 12.345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Rectangle 15"/>
          <p:cNvSpPr/>
          <p:nvPr/>
        </p:nvSpPr>
        <p:spPr>
          <a:xfrm>
            <a:off x="4724280" y="2514600"/>
            <a:ext cx="373392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ports :</a:t>
            </a:r>
            <a:br>
              <a:rPr sz="1400"/>
            </a:b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float_param</a:t>
            </a: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ci-parameter has been created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2" name="Rectangle 15"/>
          <p:cNvSpPr/>
          <p:nvPr/>
        </p:nvSpPr>
        <p:spPr>
          <a:xfrm>
            <a:off x="4724280" y="3276720"/>
            <a:ext cx="3886200" cy="76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trieves :</a:t>
            </a:r>
            <a:br>
              <a:rPr sz="1400"/>
            </a:b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Handle for the ‘float_param’ cci-parameter </a:t>
            </a:r>
            <a:br>
              <a:rPr sz="1400"/>
            </a:b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and stores it to new_param_hand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Rectangle 15"/>
          <p:cNvSpPr/>
          <p:nvPr/>
        </p:nvSpPr>
        <p:spPr>
          <a:xfrm>
            <a:off x="4724280" y="4114800"/>
            <a:ext cx="396252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gisters :</a:t>
            </a:r>
            <a:br>
              <a:rPr sz="1400"/>
            </a:b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pre_read callback using </a:t>
            </a:r>
            <a:r>
              <a:rPr b="1" i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new_param_handle</a:t>
            </a:r>
            <a:br>
              <a:rPr sz="1400"/>
            </a:br>
            <a:r>
              <a:rPr b="1" i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pre_write callback using new_param_handle</a:t>
            </a:r>
            <a:br>
              <a:rPr sz="1400"/>
            </a:br>
            <a:r>
              <a:rPr b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post_write callback using new_param_hand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4" name="Rectangle 16"/>
          <p:cNvSpPr/>
          <p:nvPr/>
        </p:nvSpPr>
        <p:spPr>
          <a:xfrm>
            <a:off x="3657600" y="1143000"/>
            <a:ext cx="9144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@ 5 ns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AutoShape 1"/>
          <p:cNvSpPr/>
          <p:nvPr/>
        </p:nvSpPr>
        <p:spPr>
          <a:xfrm>
            <a:off x="304920" y="220680"/>
            <a:ext cx="861840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5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Expected Output (ex20_Tracing_Parameter_Activity.log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80880" y="15145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Prior to 0 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C_TOR] : Creating new integer type cci-parameter with default value 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create_param_cb] : Retrieving handle for newly created cci_paramet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create_param_cb] : Parameter Name : param_owner.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has been created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create_param_cb] : Parameter Value : 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create_param_cb] : Registering other callbacks on the newly created cci-parameter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@ 0 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] : Setting new value to the 'int' type param to '15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pre_write_cb] : Retrieving details of new cci-paramet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pre_write_cb] : Parameter Name : param_owner.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1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post_write_cb] : Retrieving details of new cci-paramet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post_write_cb] : Parameter Name : param_owner.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1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5 ns, @ 5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5 ns, [OWNER] : Creating new 'double' type cci-parameter with default value : 12.34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8:34:41Z</dcterms:created>
  <dc:creator>P V S Phaneendra</dc:creator>
  <dc:description/>
  <cp:keywords>CTPClassification=CTP_IC:VisualMarkings=</cp:keywords>
  <dc:language>en-US</dc:language>
  <cp:lastModifiedBy>Wieman, Trevor</cp:lastModifiedBy>
  <cp:lastPrinted>2008-06-05T03:17:01Z</cp:lastPrinted>
  <dcterms:modified xsi:type="dcterms:W3CDTF">2017-12-17T01:25:28Z</dcterms:modified>
  <cp:revision>82</cp:revision>
  <dc:subject/>
  <dc:title>ex20_Tracing_Parameter_Activit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7 01:25:27Z</vt:lpwstr>
  </property>
  <property fmtid="{D5CDD505-2E9C-101B-9397-08002B2CF9AE}" pid="5" name="TitusGUID">
    <vt:lpwstr>c510a3f5-05aa-41bf-bec3-42483cac079d</vt:lpwstr>
  </property>
</Properties>
</file>