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61F19-6488-4463-8F86-5924E75AB9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13702-0AA8-4BC1-924D-4521A486F6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8964A-6AD6-447A-ABF0-74A3975F73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516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4944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088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516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4944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6F308-DA42-4182-8E1C-CD93F92633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880" y="8377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452A4-1B8B-4CC8-A097-F0A1D24F96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516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4944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88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516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4944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A30CD-6D2C-43A9-8490-31AAE94EC5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267FB-6662-496E-B61C-C7AE94947C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C106E-D376-40DF-8630-C475891927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8377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A3B7A-A808-4871-9D6E-5A531D3B5E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34354-3C24-4BB0-A82D-216B3A3184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D02BE-E240-40DD-97B9-9EB371ABE4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2AAFB-D4F8-4A10-8030-23ABE77E28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7262" t="6352" r="10487" b="3395"/>
          <a:stretch/>
        </p:blipFill>
        <p:spPr>
          <a:xfrm>
            <a:off x="685800" y="1219320"/>
            <a:ext cx="7772400" cy="54100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0" t="0" r="0" b="54366"/>
          <a:stretch/>
        </p:blipFill>
        <p:spPr>
          <a:xfrm>
            <a:off x="2495520" y="434880"/>
            <a:ext cx="6191280" cy="40320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668160" y="284040"/>
            <a:ext cx="1541520" cy="47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752480"/>
            <a:ext cx="8226360" cy="0"/>
          </a:xfrm>
          <a:prstGeom prst="line">
            <a:avLst/>
          </a:prstGeom>
          <a:ln w="38160">
            <a:solidFill>
              <a:srgbClr val="ff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4771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 OCP-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3FF66-7FCA-445B-B0C1-00E4A8373FD9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rcRect l="0" t="5707" r="0" b="0"/>
          <a:stretch/>
        </p:blipFill>
        <p:spPr>
          <a:xfrm>
            <a:off x="457200" y="2209680"/>
            <a:ext cx="8305920" cy="4267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2038320"/>
            <a:ext cx="8318520" cy="182520"/>
          </a:xfrm>
          <a:prstGeom prst="rect">
            <a:avLst/>
          </a:prstGeom>
          <a:solidFill>
            <a:srgbClr val="ff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33520" y="380880"/>
            <a:ext cx="2889000" cy="893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rcRect l="0" t="0" r="0" b="76113"/>
          <a:stretch/>
        </p:blipFill>
        <p:spPr>
          <a:xfrm>
            <a:off x="609480" y="1676520"/>
            <a:ext cx="8247240" cy="2808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35049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6629400"/>
            <a:ext cx="838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OCP-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OCP-IP SLD WG Outp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1911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542200" y="1884240"/>
            <a:ext cx="3165120" cy="1031400"/>
          </a:xfrm>
          <a:prstGeom prst="rect">
            <a:avLst/>
          </a:prstGeom>
          <a:solidFill>
            <a:srgbClr val="ffff00"/>
          </a:solidFill>
          <a:ln w="57240">
            <a:solidFill>
              <a:srgbClr val="ffff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Regular Releas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Features constantly add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Backward compatibility maintain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upport for OCP-IP deliver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Already planning future releas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2448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1992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8620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46280" y="54435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533412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uly 2003: 1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4267080"/>
            <a:ext cx="75960" cy="106704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4267080"/>
            <a:ext cx="304920" cy="12193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556272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pt 2003: 1.1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2895480"/>
            <a:ext cx="761760" cy="12193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2362320"/>
            <a:ext cx="123480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c 2003: OCP 2.0 Suppor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057040" y="2971800"/>
            <a:ext cx="228600" cy="114300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52480" y="2057400"/>
            <a:ext cx="114300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b 2004: 2.01 &amp; Adapters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4267080"/>
            <a:ext cx="304920" cy="16765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601992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b 2004: 2.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00400" y="4267080"/>
            <a:ext cx="152280" cy="7621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5105520"/>
            <a:ext cx="93024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ug 2004: Monitors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95680" y="4267080"/>
            <a:ext cx="228600" cy="137160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67080" y="5715000"/>
            <a:ext cx="93024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b 2005: OCP 2.1 Suppor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3504960" y="3276720"/>
            <a:ext cx="75960" cy="91440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8120" y="274320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t 2004: 2.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2666880"/>
            <a:ext cx="990720" cy="14479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52680" y="1981080"/>
            <a:ext cx="182880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uly 2005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1 &amp; Example Package Releas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86400" y="5791320"/>
            <a:ext cx="1295280" cy="7635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rch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2 &amp; TL3 Channel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6171840" y="4267080"/>
            <a:ext cx="609480" cy="14479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3124080"/>
            <a:ext cx="114300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ril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2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77120" y="3581280"/>
            <a:ext cx="380880" cy="5335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05720" y="5105520"/>
            <a:ext cx="114300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y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eckers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010280" y="4267080"/>
            <a:ext cx="228600" cy="7621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162920" y="3276720"/>
            <a:ext cx="121896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t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772400" y="3733920"/>
            <a:ext cx="152280" cy="38088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0EEC2-D504-4A9B-A970-2A54848BE118}" type="slidenum">
              <a:t>1</a:t>
            </a:fld>
          </a:p>
        </p:txBody>
      </p:sp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2T18:53:25Z</dcterms:created>
  <dc:creator>OCP-IP Administration</dc:creator>
  <dc:description/>
  <dc:language>en-US</dc:language>
  <cp:lastModifiedBy>aluukinen</cp:lastModifiedBy>
  <dcterms:modified xsi:type="dcterms:W3CDTF">2006-10-31T18:52:52Z</dcterms:modified>
  <cp:revision>168</cp:revision>
  <dc:subject/>
  <dc:title>OCP-IP Introductory Presentation</dc:title>
</cp:coreProperties>
</file>