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D7D2-87B0-48F4-8A13-D0ADB2745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B335-859C-49D6-BF76-1A5F0342D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F3F0-F19D-4027-9A24-195ED38F3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7476-CEC4-4469-A511-9D8871FB8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2E3F-4DE8-4DA3-B2C5-FF402DE03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BD2B1-D4EE-4128-8CBA-3AF4804FC6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38EE7-132D-4036-A467-F07C3B69C7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BD869-8DC9-4D1D-9E32-469028FD86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7B5FA-67D8-4C30-87EF-A5C305EB9C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D5207-71C7-44B7-9C67-5DDB02F295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02137-2235-4313-81D7-C42F061270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7DDB7-9098-41A5-8B84-F910D35D28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54BB4-8F4E-40EA-A866-96903E27BF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65352-88FE-44F0-9021-A0E52620F2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8620B-6671-4FCC-A403-BDFEC19295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C2E26-553B-45BF-B164-72F4BBFD29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53657-4935-4FD0-AB50-4AC164C0FA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9744-27F0-4FE8-B460-2A84FDA08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Jack Donovan</cp:lastModifiedBy>
  <dcterms:modified xsi:type="dcterms:W3CDTF">2009-05-04T21:26:45Z</dcterms:modified>
  <cp:revision>87</cp:revision>
  <dc:subject/>
  <dc:title>AT Basic System Example</dc:title>
</cp:coreProperties>
</file>