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CC70D-7DFB-4E53-A78C-E65B700E2A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14CF6-B4B9-49E7-9B2D-CA032D41D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28D4E-ABBF-4429-BF55-8C4079D0F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D0A60-7C6F-44F3-BEF1-B01734D01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7B62F-09E3-4D8E-9DB8-083CE0B79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A9987-767C-4758-A39F-78A1EC0EA7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0DE98-09A1-444D-B0D3-1583502B52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E48BB-54A3-4648-880E-7B87D13ED9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1CD06-4D38-4BE4-89C9-FE8D4A64FB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DD2C8-2312-49DF-89C8-05AF2B17F0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0EA44-DE81-42AF-B5C3-C8FABC71EC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2DD25-FA19-4B71-BD93-A82CF8AA69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EF6B2-C3D8-4DAD-AC03-0BDE941860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20DBC-0C63-4926-A346-264E3BB687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24935-F8E1-4E07-B93A-15CC023B87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D92A7-5069-4370-83F3-93C7984A6E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340DA-0E71-4A48-BF36-ED7B91790D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EB79E-1DDA-4DD6-AB9C-88D5436EB4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18:56Z</cp:lastPrinted>
  <dcterms:modified xsi:type="dcterms:W3CDTF">2009-06-26T16:59:39Z</dcterms:modified>
  <cp:revision>87</cp:revision>
  <dc:subject/>
  <dc:title>AT Basic System Example</dc:title>
</cp:coreProperties>
</file>