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0780-9E15-4C32-8D88-D44936740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5198-81F0-4149-BB56-D0C8006A3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FE9A-1B9B-46C8-80EF-F3AB58A48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F15E-E94D-4711-943F-45C2DE068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0656-6913-4329-B20B-D66E29A59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56BF-AECB-4E6C-8426-3BC3C57AB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6E407-4308-4D2F-9AE3-21463C4EEC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71E66-4D03-4A4C-88C2-02E9995111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A0FFE-D062-4C32-8D4D-23890D15FF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E90E3-C876-4510-B9E0-274B46EC66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8BB39-E3EC-4DBE-A95B-CA980A7C82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25DBC-F7A1-42A9-9AA3-76B40CB24C8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896A8-C37C-45A5-A24A-E7673421C11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826A8-EF7F-49A5-9B67-2333CCB4A4D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4D018-435E-4296-95C2-AFE121E3AB5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76726-4062-4893-9D7C-796D9C70F4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FEBED-D14A-4A45-B9C7-5282CEC04F2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4D6E2-9B6E-49C6-AD96-E8B628D3FDC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FC091-9292-455C-BB8F-B9C2F808C4F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C2CAE-0AD7-4248-9E22-F4E7D94A646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76818-6DDA-453A-8C28-24490A186FA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F8283-87AB-4EE6-AD68-3304D7914FF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2A370-4487-423C-B59F-C5B3803BFCE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C5E82-BB33-42E8-92E9-BEB108B711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E30A0-1CAB-44AE-9130-B4210DA583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CEBB5-F3E9-4BF4-A530-A3F9F4E8C6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1D210-6FBE-4825-89D2-18C1988FBC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3CF8A-2AF0-4D83-BF8D-88855BECC9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94908-E585-4CC9-8AE1-F6D9AB4230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23626-DEBC-4F91-97E8-CD52EA5641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C787-88A1-446D-A4A9-D260999E1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8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8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7FB9-BC6E-442B-A130-2065FA33B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FA04-6488-4EF9-BE56-2FFFA15C0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F00E-209F-4CA0-9600-45BEFCDF9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DB34-4D8A-4C49-B2CA-3F5EBAFEA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3D30-87F3-4D30-B23F-5A078396E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AF60-3066-404A-B915-195A80FEE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9C4E-ED77-4CDA-9CA3-D056C8D42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91D1-A8BF-4737-89DD-E841C140E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AC5E-E1E0-4491-8F2D-DCC0524C0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BBBD-C329-47AE-8054-1E81E06D3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6098-8D1A-4CA4-A6F9-03706E335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F6B5-DE2E-4C5B-9FCB-949561784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A75C-7848-4793-A5EE-687321654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9520" y="928800"/>
            <a:ext cx="39038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tra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AA95-4E0E-41FB-A910-ACBD7E3E8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 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6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8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756D-D6E1-4420-AE2F-80E28ADC0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52CD-20A3-43CD-8510-99864F22A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DCBA-5991-4EB2-9605-CBFE486F6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C1F8-41EE-46F5-ACC8-0F3A19AC0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B8D7-9201-44D2-A383-6F22EF878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6544-7F32-4AB8-AFA9-16DDE69B7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8FC5-D8B8-46C2-AFCE-D33BB4E97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743B-1EB9-47C0-A994-FD5DBB119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84F2-CA2A-4970-B546-B37F0C394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80BA-746F-4523-8CA3-CB9083561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3EED-83F2-46CB-81E0-9B84CFA0F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1E3D-0E2A-43D1-B241-0799107A4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648000" y="4616280"/>
            <a:ext cx="2020320" cy="736200"/>
            <a:chOff x="648000" y="4616280"/>
            <a:chExt cx="2020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648000" y="5045400"/>
              <a:ext cx="2020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u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6880" y="4616280"/>
              <a:ext cx="105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u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2B6B-34F5-409C-A6FE-597FF9F7E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D850-FDAD-474A-BA3F-6E80653B2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8B7B-A794-4AC5-9F03-03C520F9A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6B89-5B6C-417B-B423-948F89B4B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0052-F48A-4E1C-AC30-9E79C261B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480"/>
            <a:chOff x="3665520" y="5286240"/>
            <a:chExt cx="4780080" cy="40248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016600" y="538164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07C2-4C60-4C24-85DC-C0E319EFE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423680" y="4519440"/>
              <a:ext cx="322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C28B-01A7-4D6E-936E-ED5E99529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B6F3-7BB0-4B31-92CB-1FF0D6131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7EAE-9B96-43FA-9394-DF0E14B88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D6D9-3054-4D01-90D6-78F53E2D6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EDD1-65A9-41FA-A0E0-2D4B0FF61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DC29-DD07-4B28-B0DB-E57F17514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82D3-18A6-4DCB-A236-938B26B76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4C98-1C4B-4F2D-A7AF-582DC236A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7C68-5542-4CE0-B58B-87A713F44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FFA1-11B4-4376-8AC6-DA6FFD8CA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B10A-35A5-444A-B2E5-4112A4FD5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8725-AD6F-4D52-9672-E32B533BA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5804-EF2E-4B67-A25A-0B9D45A0C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B002-BABC-4E34-A7DF-A1DB9027E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2FB7-5B10-4F80-A139-D6D34D04D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5D7E-2A96-43E6-8AB1-48BDD880D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D8C4-7358-4E2F-B122-14AA600FC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1F56-727B-4B77-BD69-65F9C2722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4ED4-C43F-44D2-8E93-F5D024829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3164-60D5-4E23-B84A-81ACDC744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E1AA-F4E4-4ED5-BF8E-D7C371D46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BAE4-3598-4DBE-A4C1-05D294CB6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F233-96CF-4B65-92CB-D1AA5B164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C0A2-4FB3-4944-A5C5-EAD7D329B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A517-37D1-42C1-9D6C-FFF330229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801E-00B1-487D-9346-920B36317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6AF7-DAF1-4B84-A636-D831B8218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89CD-F4B4-40C5-BA94-A49DBBB0C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72A5-ACAA-4DCA-A05A-28AD9A1FB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C0B4-F037-402B-8A19-FD9EA7C48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4B1B-EA7E-4AE0-ABAF-A1DB6A76F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into(tlm_generic_payload&amp; other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EEC0-80F4-4D65-AB7C-94B89B6CC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F7B7-7E8B-489C-A688-CAA5972A4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C1ED-BC6A-4D3C-9126-975CE5A86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9497-A101-4EA8-AA84-6C1EB15BE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4196-D744-4697-A532-D9650F72D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3D58-A30D-47AF-ACD2-3DC1F20A9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7F8F-C3A3-4333-A1B3-C97964BBC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02B8-44B7-45C5-A129-5DCC5CF6D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8571-91D9-4019-BCE7-BA2383F3B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35E3-4CA5-4F58-BF91-94E39DB8D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F4B3-AB36-4BF7-978F-1E4E16F1D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229E-F56A-4769-9E33-E0D01592A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9363-3896-4BA1-BC15-ADF0E6EE3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56AC-86B8-45FA-813D-65A43F263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614B-6C0E-47A0-B346-B380721F6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304920" y="1279440"/>
            <a:ext cx="8510400" cy="41576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9117-343A-4ED4-A7C0-D8459C281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29C9-B106-4EF5-962F-A932FF43A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8C6D-8369-4FE3-ACF0-ABF2B6843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392040" y="857160"/>
            <a:ext cx="652104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new tlm_generic_payload( mem_mgr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F2F9-C2E9-4E77-89C6-CFD757232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7BA4-3F05-48F0-B13B-8EC4F92F9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25BF-810A-4007-9B01-BBEA4850D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4DBE-AC46-4AAF-A594-E0D166BEE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FC65-A7B1-46BD-A3FB-B6D0F07B7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E142-50E4-4A3A-94B9-D25775FAA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B6B9-B884-4442-9D06-FB9BF656A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18DD-DEBF-4B48-AB5B-47B49088E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F744-AC73-4E7A-8387-4F8E3E49F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D9E7-26DC-4A27-B355-778EE27FC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3FE5-72E8-47A4-9DDF-A71E71D04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0798-FB67-489C-B900-34E4E67D1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7512-A47B-422A-BD2A-F235A1843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6E8A-11B8-4C10-8618-78405C6A1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32BD-00BC-439C-A7B1-597A07746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C9C5-E6A6-4827-BFC3-A880760FE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5709-7A76-478B-B80B-1955C2927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2271-70B7-4CE4-AD8C-BAA230322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E74C-09A9-49A7-B94F-4CEA3C7ED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 </cp:lastModifiedBy>
  <cp:lastPrinted>2002-03-05T00:56:29Z</cp:lastPrinted>
  <dcterms:modified xsi:type="dcterms:W3CDTF">2008-06-06T08:52:13Z</dcterms:modified>
  <cp:revision>1580</cp:revision>
  <dc:subject/>
  <dc:title>TLM WG Status 070327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10917829</vt:r8>
  </property>
  <property fmtid="{D5CDD505-2E9C-101B-9397-08002B2CF9AE}" pid="3" name="_AuthorEmail">
    <vt:lpwstr>bart@CoWare.com</vt:lpwstr>
  </property>
  <property fmtid="{D5CDD505-2E9C-101B-9397-08002B2CF9AE}" pid="4" name="_AuthorEmailDisplayName">
    <vt:lpwstr>Bart Vanthournout</vt:lpwstr>
  </property>
  <property fmtid="{D5CDD505-2E9C-101B-9397-08002B2CF9AE}" pid="5" name="_EmailSubject">
    <vt:lpwstr>TLM-2.0 Presentation ja6.ppt</vt:lpwstr>
  </property>
</Properties>
</file>