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1049A-EEAB-4025-A7BE-EED18CE0F5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8D9B8-BEDC-4B6F-AC4C-31437B11BA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3BDD3-D489-45A1-9B12-47778164CE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D9F49-EFA9-4850-B554-625378A906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C088C-2D2D-4808-B1A0-0258160C87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B1A23B-51D7-4A85-8251-C9E93CBE6B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0F94B4-F6A8-49C0-B83A-3109BEBAA8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11004D-69C6-481F-96EE-67585542CF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C8E2BF-FE8C-4125-95AC-BAD214784E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E14F65-536A-4F92-8B6A-6571F2720E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DA9A5F-2A52-49B2-96FB-DA9816809E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1F0936-2E7F-45A5-92A1-08A845FEEF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008A21-5CC0-46D0-AFD5-85C360CD05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728D6F-6188-47B4-B7B6-F41DE0DB89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020ACD-3EB4-4652-9691-5A490A0799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E57492-BC62-4B54-B5D6-EBB786227B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C976AB-0F6E-4145-9FEE-E5BA97C076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4D40E-C692-415A-9542-F14F18B63B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Approximately Time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ies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172160" y="863640"/>
            <a:ext cx="5904720" cy="49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select_initiator.cpp: 2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new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select_initiator.cpp: 2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2_phase.cpp: 3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206360" y="860400"/>
            <a:ext cx="57373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2_phase.cpp: 47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select_initiator.cpp: 5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nb_transport_bw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select_initiator.cpp: 5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select_initiator.cpp: 5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Jack Donovan</cp:lastModifiedBy>
  <cp:lastPrinted>2008-06-04T18:30:41Z</cp:lastPrinted>
  <dcterms:modified xsi:type="dcterms:W3CDTF">2008-06-04T21:41:17Z</dcterms:modified>
  <cp:revision>88</cp:revision>
  <dc:subject/>
  <dc:title>AT Basic System Example</dc:title>
</cp:coreProperties>
</file>